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084A-7F30-4F81-AB02-999B61C46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0BF9-14F1-4238-A230-3B0964C41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955-81E2-4020-BF2B-2BCD759C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5746-FDEE-4EE2-9400-FA7BBDB1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851-19EA-4F26-A4D6-C925CF43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38B-E953-4D78-8D82-4B6AD3DA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32B-9B47-48C3-90C3-DA5C5FE2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4BE-F5B5-4B74-A500-0B1513E5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A0D-5A73-4894-9614-FF196F9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FDD-56B5-49B4-9240-530C3906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A0B-37F1-4593-ADD3-116EDB4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0D0-D4EF-45ED-9007-7B94E597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B76-68F2-437E-B816-692D0A9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FD0-D1AE-44E9-B0FE-BCC732D9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DECE-6C0D-45E4-ACF5-4FABC6C66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291960" y="109440"/>
            <a:ext cx="8560080" cy="1706760"/>
          </a:xfrm>
          <a:prstGeom prst="rect">
            <a:avLst/>
          </a:prstGeom>
          <a:ln w="0">
            <a:noFill/>
          </a:ln>
        </p:spPr>
      </p:pic>
      <p:grpSp>
        <p:nvGrpSpPr>
          <p:cNvPr id="49" name="Content Placeholder 5"/>
          <p:cNvGrpSpPr/>
          <p:nvPr/>
        </p:nvGrpSpPr>
        <p:grpSpPr>
          <a:xfrm>
            <a:off x="304920" y="1450800"/>
            <a:ext cx="4346280" cy="4827600"/>
            <a:chOff x="304920" y="1450800"/>
            <a:chExt cx="4346280" cy="4827600"/>
          </a:xfrm>
        </p:grpSpPr>
        <p:pic>
          <p:nvPicPr>
            <p:cNvPr id="50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304920" y="1450800"/>
              <a:ext cx="434628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720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2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Calibri"/>
                </a:rPr>
                <a:t>EXAMPLES OF EASY WAYS TO VIOLATE THE LAW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omebody you don’t even know e-mails you a copy of a copyrighted song and then you turn around and e-mail copies to all of your friend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make an MP3 copy of a song because the CD you bought expressly permits you to do so. But then you put your MP3 copy on the Internet, using a file-sharing network, so that millions of other people can download i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ven if you don’t illegally offer recordings to others, you join a file-sharing network and download unauthorized copies of all the copyrighted music you want for free from the computers of other network member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In order to gain access to copyrighted music on the computers of other network members, you pay a fee to join a file-sharing network that isn’t authorized to distribute or make copies of copyrighted music. Then you download unauthorized copies of all the music you wan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transfer copyrighted music using an instant messenging service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You have a computer with a CD burner, which you use to burn copies of music you have downloaded onto writable CDs for all of your friends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Do The Crime, Do The Tim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iminal penalties for first-time offenders can be as high as five years in prison and $250,000 in fines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ivil penalties can run into many thousands of dollars in damages and legal fees. The minimum penalty is $750 per son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riminal penalties can run up to 5 years in prison and/or $250,000 in fines, even if you didn’t do it for monetary or financial or commercial gai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f you did expect something in return, even if it just involves swapping your files for someone else’s, as in MP3 trading, you can be sentenced to as much as 5 years in priso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gardless of whether you expected to profit, you’re still liable in civil court for damages and lost profits of the copyright holder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r the copyright holders can sue you for up to $150,000 in statutory damages for each of their copyrighted works that you illegally copy or distribute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law,.(n.d). Retrieved June 27, 2009 from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musicunited.org/2_thelaw.html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7:47:47Z</dcterms:created>
  <dc:creator>Christy Thornsberry</dc:creator>
  <dc:description/>
  <dc:language>en-US</dc:language>
  <cp:lastModifiedBy>Christy Thornsberry</cp:lastModifiedBy>
  <dcterms:modified xsi:type="dcterms:W3CDTF">2009-06-27T18:29:19Z</dcterms:modified>
  <cp:revision>5</cp:revision>
  <dc:subject/>
  <dc:title>21st CENTURY PIRATES</dc:title>
</cp:coreProperties>
</file>